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E09-469D-4527-9768-47EEBBE4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866-3517-4573-A8CF-DBBA090F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DBE-D7FF-4FF4-8C32-15971229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C1C-03B6-4375-A349-855C24A0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D8C2-07F6-4099-A669-40884070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42F7-2663-47E4-B5D6-0B18B745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302-C08D-4376-8CD5-BC3FBC19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45ED-5C01-4C37-906C-D71F19BC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414-F9C7-4172-8395-3AC076CC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720-2358-4F34-8D1D-3D0D837A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9A7-EF70-482C-942E-1E8D866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7E1-2A08-476A-B1BE-AB5AD03B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69C-FED8-49F4-B0ED-AABB41CB3DBD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Vertragsabschlüsse per Interne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llenserklärung zwischen Vertragspartn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schränkt geschäftsfähig ab 7 Jahr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(§108 BGB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Taschengeldparagraph (§ 110 BGB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ilt erst nach Geschäftsabschluss (Zahlu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ernabsatzgesetz (§ 35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derruf ohne Angabe von Gründen bis zu zwei Wochen nach Vertragsabschlu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as tun bei überraschenden Rechnungen, Abonnements etc.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bseite des Unternehm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lares Geschäftsmodell und Impressu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rreführende Angaben ausdru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ültigem Vertragsabschluss widerspre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chweis über erbrachte Leistung und den Vorgang des Vertragsabschlusses einford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gf. Anwalt für Verbraucherrecht einsc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45:32Z</dcterms:modified>
  <cp:revision>139</cp:revision>
  <dc:subject/>
  <dc:title>Folie 1</dc:title>
</cp:coreProperties>
</file>